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027-7AA7-439E-B9C3-25143A04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F47-49AA-4968-919A-A63A922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B06C3-8EEA-4F47-8274-CEB9264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7780E-AD50-4E8B-B956-A3879B0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0135-826D-45FA-9DB1-9C0243A2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ECC9F-2D8B-4113-A301-26F61B5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E3DA7-8FF4-4478-8C95-F949CC5C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B3682-FC05-4971-9F8D-57D8F46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A95D-889E-446B-B12C-EA0B55AA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C2044-683D-4363-8D7B-219D7327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CC778-587D-4432-8D09-D66440E1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83D91-554A-4B2F-BD7F-72D5EEBB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005-76A1-4347-8E83-00BB567C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D80A4-A8F4-4E86-81DF-6B5361B2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60EF6-EA7D-4535-B59F-969BEF5A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9413A-85DE-4E8E-B2DD-347B5AB0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D8FD1-7465-4DC3-98B5-876C7A7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9B94-FB5A-44EF-BBFE-F84B680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3C964-89FD-4CE3-A4CD-D485B9A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6DFA4-40F3-4293-9BEA-C65A8B4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B980-25CD-4BE5-9607-2F9093E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40FD5-0780-40F7-A94B-F6587FB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BB34F-1DB0-4E32-A0FD-71AE85F1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BD9-1AE8-4B33-92DF-A4E93CA8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007C7-243F-417E-8A6C-F9FDAF22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962A6-B66B-4F8B-9796-8007C5F8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024DB-3CC7-44BE-A145-8AEB8328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AF2C-6242-4412-896C-CDF21504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CC6F9-5685-4856-A620-C4577746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14F0-D63F-498C-A03A-8AFEA0F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9C6B0-B0C5-42F7-8AB1-5CD3F3D1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6261A-B2E4-47B2-83F3-432FBF2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F635E-B591-46B0-95BD-9EA9DD2C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F6D86-14E1-4ECC-BD7F-843D8A7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1732-4BE4-4959-B862-E8E0E3A2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B519-9AF9-4DDE-88D8-0CE96F0A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64F8-25CD-4325-B0CC-F35C5542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10DA6-25DD-48C3-AE37-CE10A9DB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0AC73-11B8-4D03-B743-8BDF15C7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65523-F56E-4F0D-8751-4422D5A6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16E4E-625C-44AB-965D-E8789E02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C1113-3DAC-4255-8E39-ABD9CE34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4E2A9-F3E1-4FA0-B025-FAB759F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E2C51-E442-4492-B70A-64163008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49FF5-DFB0-44FE-8EEF-028EF4C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D51-05A5-4C4F-A961-6F6BED9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F80A-0331-444E-BCB9-2EE9F5E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EBAEC-1E07-4FA9-AA06-EA459E50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B434B-38EF-4CEE-863B-3260831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31AE9-A74E-4C3D-AC46-D973D649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16D5B-5096-431E-91B6-9C7BBA99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CD672-9F63-4748-8CAA-CC120733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CFDD6-9A0D-4F27-AC11-5821E826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4A745-5B45-4620-87BA-B2E53E4C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1B8B6-56BD-489A-9217-3688867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9371F-F62C-458D-B0FA-882CABB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AFBE-8851-4DAF-BBCB-68538CA9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7FF0C-89D8-40F2-8806-2571E8AE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CAA76-75A9-4D71-B705-5AAB76A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0DC49-1D61-479F-8358-91408FCD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10337-0AA7-481E-B4CB-66BEB43D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AB2FD-1D87-453C-9B62-5CF30DC7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4E2EC-0512-48D0-B536-A0DDE152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992DC-2312-4A11-89DE-5325F9D2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AD59D-C37E-4B43-97BB-4F84FE9F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AC3F2-3AB7-4309-8A6D-88D6C8B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B3318-0DF2-424D-A9CE-9C782C7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E25C-15F4-4FB9-BAFA-4C6C75C1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109A3-95EB-44AF-B5AE-184E408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7D63E-CE3D-40CE-8058-6D7A6655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D9B28-76FD-4F26-B960-6CB4C7C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5A2DB-1D46-40BA-896A-0E20AA9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D4796-2725-4147-A9A0-EA0DB5C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A0025-5873-49A6-A5E3-38F2644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BAEAC-DAEC-48B3-A25E-C8030A1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91F6D-E443-440C-8056-A094C073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34F11-A68B-4B87-A7F7-599EA98F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A0EF9-516E-4AC1-8C5D-7CD716E1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4DE8-3EA0-48FD-8FE5-586C9D9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7B91C-E74A-4434-AFA3-54F0166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E4E1E-2491-4D9E-8561-31434A3A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1953B-15A3-44E4-92DC-8515F03A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F2937-A7D2-42FD-95D9-AB63156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A77BB-E92A-4426-9471-B568E20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33AD3-7985-4D1B-AABF-7235389B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34C07-2D9D-4288-95B7-96564D5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BEF1E-161A-4E7D-9577-7219E64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81298-0B09-4CBD-8070-4EBAFA57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E487D-FD17-4EC8-A3B5-C1F002DA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ED0C-6665-4AEB-AA44-0D201A4F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AC033-028A-4DB1-9117-B566EAA3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73D4-9647-4350-A821-407B88ED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B33-5C36-4AA7-B083-14FFA1F9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32F-D8B3-444E-9209-C44E9F7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C497-2B9A-4B4A-8742-E5E99A3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4D46-90AB-4CC2-A741-F89B0C0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44D-D9DC-4153-9E96-05B85BBD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53D1-9A84-44E7-BA94-E51C0601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C52F-68E8-45A3-90BF-62C99505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229B-CDB3-471E-9A33-719BAC0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200B-7CCF-4A92-BAFE-5DFB5CD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DAE7-186D-4D58-A97F-F28D5371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F003-2E04-43FC-A4D4-C6FDCB50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CB6-7DD1-44D9-B38B-76130D75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4F19-952D-460A-9D32-7C1020E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31DB-B880-44E6-9154-FE4AA9A2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303F-677F-4DB1-B8FF-2C1A207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5543-9CEB-41DD-9584-7EC6405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32EE-BE0E-44B1-A67B-3D422459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A3DA-3ED9-47C9-86FA-99D41B0D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8932-1D23-4575-8CB5-24A673FC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447E-9303-4402-A352-8A71F00A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C835-07F1-46F4-AE03-94F62E2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600C-ECE0-4836-BF6B-504FB663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0FD-5B0F-464F-BEB4-468EE95C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65B89-306A-4F1C-B9B5-1216F8FE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DD9F-206D-42F6-BF0A-1BC547FF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CDE7-02D7-4CE4-9563-0149F7A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46FC-4D8C-42AA-B970-B10E6A6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75E1-8AA1-41A9-8B3F-B38506F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28610-59EF-401D-A65C-A31026A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8D96-7C5D-4BD9-8244-58FE60FA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6A7A-8D53-422A-9EC1-37C65A0C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9A76-2406-4564-B068-12BFB72F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6C38-1CD7-466C-A673-8AD3F1C3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CF8-172A-4874-A345-10E525B6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FA06F-298C-432E-B9E1-BF64610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F4CC-50A8-45C8-AF83-97FF01E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80AD-45FB-4E01-AC80-7A4F5C57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609E6-3FF4-44F8-AE39-C7334D2E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87DEE-668A-477B-8C63-E3A865E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1902-63F1-4DA4-A701-C8B8496D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67970-29FD-42AC-8533-77D1211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F35E7-5C26-4431-9E8A-BC88A1E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D8E5-64D6-498A-A32D-805C75EB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A22F-1C96-47A4-B62C-6ACD149A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AD3-4516-4674-BB6F-49AEF25A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777E-CFF0-4B65-8442-8B30942E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DB8E-3C67-47E7-A80C-C2B8D10E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C8565-2C49-43E5-9FFC-864AF68C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5395-973A-4A20-9F0F-B6D6BA7B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0726-F441-4039-9EF8-89E8E008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CC47-F224-443A-9E76-5B3D3AA7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B7C7-F917-4471-800D-39789392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6F2EF-5076-4B9A-BD50-E0B53406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B5A4-7B11-4F6D-A93D-6668485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1998-7592-4851-B9D6-12243406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874-9FFD-4CD6-94F7-2978E66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29A9D-24FA-4601-B0C7-15E134E0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CF06-2E85-4C22-9AFF-50B6E960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2586-5659-4DB7-8921-581BDDFA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07C4-1290-4FC2-994C-3C6EFDEE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FCB2-4F04-409F-916E-D82C0CD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B15D-40AE-4EA7-ABE8-DB654D8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795C-9D1D-419C-A2E9-1DECCE0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EF46-1315-4844-B37A-97307605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FBE6-CF5E-4C26-BE99-AD4070DA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753B-A3CD-457E-ADF8-7134EB6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B9E-098B-4143-AA96-D553F73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913B8-4A78-4FE8-8E1B-B935033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429A-E4C3-45D5-9AE4-BEA2B66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EAF7-C3D4-4582-A686-C3CD6473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3FDD4-48BA-4511-B568-62866AB5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F2CAC-8E85-4FC3-AE12-B1FED13C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6909-78EE-4BE6-8AE8-20E687C1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5CFFB-8572-4033-93A4-4AFF32FF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47A9B-A8B9-43CB-8F0F-B640CE3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86D4-B771-4F34-AAFF-55FB879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93D0C-4CE7-4F68-9673-6FC39203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2E7-526E-4B5C-BC92-96149B8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38FF1-37CB-48C4-B2AB-5FB2E65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587B7-9B26-49EB-B0FA-3111179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F785E-DCF2-4A68-B570-7E84F3E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08CB3-E184-4139-AF07-074C71E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356D-A574-458B-B8CA-3ED67AFD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762C1-90BB-4E50-A2DA-4473CBA7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6E5A-03A7-4424-BE2B-3D3D40B3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DFAD8-39FC-414F-A7B2-B54C070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F9197-DA4A-40CC-A03B-424B40C7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379FF-5FC9-4E56-AA64-028674D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C35-9A08-421C-9B91-87A8F04A74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7E9-212E-4C69-866B-D129857A10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EBDA-35CD-45C4-B348-7158166434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BFB5-E06E-4CE4-B11F-D6531D5C33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F16-C017-4BDC-96EB-4CDC731B6A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A85-0989-4E94-8330-27D546E889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9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9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9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121E-7439-4A85-8B7C-CB603A4B4679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A42-7E91-4B72-9BCE-D7BDAC56837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F22-EE64-416B-A62C-C6F36A7AE0B5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9A9-3F71-4D1F-98B8-89A2DBACC1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AEE-F285-4418-967F-43CD5280D3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A40-442B-4AB0-A842-1A61753913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3B8B-007C-4C04-A35D-35B9BBD52B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DF6-F3D9-47E6-A325-8BCBFCBC44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C398-AD99-4A6C-9D81-F1F84BF052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omuni di Calci - Cascina- Pisa – San Giuliano Terme – Vecchiano - Vicopisan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8" name="Picture 4" descr="puzzle"/>
          <p:cNvPicPr/>
          <p:nvPr/>
        </p:nvPicPr>
        <p:blipFill>
          <a:blip r:embed="rId1"/>
          <a:stretch/>
        </p:blipFill>
        <p:spPr>
          <a:xfrm>
            <a:off x="838080" y="1600200"/>
            <a:ext cx="1067040" cy="91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89" name="WordArt 5"/>
          <p:cNvSpPr txBox="1"/>
          <p:nvPr/>
        </p:nvSpPr>
        <p:spPr>
          <a:xfrm>
            <a:off x="1905120" y="1828800"/>
            <a:ext cx="6781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70c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900" spc="1" strike="noStrike">
                <a:ln w="9360">
                  <a:solidFill>
                    <a:srgbClr val="0070c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onferenza dei Sindaci  per l'educativo - Zona Pisana </a:t>
            </a:r>
            <a:endParaRPr b="0" lang="en-US" sz="900" spc="1" strike="noStrike">
              <a:ln w="9360">
                <a:solidFill>
                  <a:srgbClr val="0070c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 Conferenza dell’Educativo zona pisana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a Conferenza educativa della zona pisana è istituita per l’esercizio delle funzioni di cui alla L.R.32/2002 e s.m.L’ambito territoriale di riferimento della zona corrisponde ai 6 comuni della Provincia che sono Pisa, Cascina, S.G.T., Calci Vicopisano, Vecchian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ambiti di intervento principal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iti di competenza attribuiti dall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ge Regionale 32/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enti in ambito di educazione formale e non for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itto allo studio, benefici e contributi scolas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zione ambien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azione della rete e dell’edilizia scola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zione degli adul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azione dei servizi all’infanzia 0-3 e 0-6 anni, coordinamento del sistema integrato z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 </a:t>
            </a:r>
            <a:r>
              <a:rPr b="0" i="1" lang="it-IT" sz="4400" spc="-1" strike="noStrike">
                <a:solidFill>
                  <a:srgbClr val="333399"/>
                </a:solidFill>
                <a:latin typeface="Tahoma"/>
              </a:rPr>
              <a:t>governance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l’attivazione del processo di programmazione di zona è costituita, nelle forme stabilite dai comuni, una struttura di supporto tecnico alla Conferenza dei sindaci che è composta dai seguenti organism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segreteria Tec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uppo Tec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ea dei Diri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une Capofi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CRED – zona pis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mento pedagogico z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Object 6"/>
          <p:cNvGraphicFramePr/>
          <p:nvPr/>
        </p:nvGraphicFramePr>
        <p:xfrm>
          <a:off x="395280" y="1268280"/>
          <a:ext cx="84247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4247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8" name="Picture 9" descr=""/>
          <p:cNvPicPr/>
          <p:nvPr/>
        </p:nvPicPr>
        <p:blipFill>
          <a:blip r:embed="rId3"/>
          <a:stretch/>
        </p:blipFill>
        <p:spPr>
          <a:xfrm>
            <a:off x="2004840" y="603360"/>
            <a:ext cx="513432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yPC</dc:creator>
  <dc:description/>
  <dc:language>en-US</dc:language>
  <cp:lastModifiedBy>comune</cp:lastModifiedBy>
  <dcterms:modified xsi:type="dcterms:W3CDTF">2015-03-19T08:44:31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